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670800" cy="9896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6670800" cy="98964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896400"/>
              <a:gd name="textAreaBottom" fmla="*/ 9896040 h 9896400"/>
            </a:gdLst>
            <a:ahLst/>
            <a:rect l="textAreaLeft" t="textAreaTop" r="textAreaRight" b="textAreaBottom"/>
            <a:pathLst>
              <a:path w="21600" h="32044">
                <a:moveTo>
                  <a:pt x="5" y="0"/>
                </a:moveTo>
                <a:arcTo wR="5" hR="5" stAng="16200000" swAng="-5400000"/>
                <a:lnTo>
                  <a:pt x="0" y="32039"/>
                </a:lnTo>
                <a:arcTo wR="5" hR="5" stAng="10800000" swAng="-5400000"/>
                <a:lnTo>
                  <a:pt x="21595" y="320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6670800" cy="98964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896400"/>
              <a:gd name="textAreaBottom" fmla="*/ 9896040 h 9896400"/>
            </a:gdLst>
            <a:ahLst/>
            <a:rect l="textAreaLeft" t="textAreaTop" r="textAreaRight" b="textAreaBottom"/>
            <a:pathLst>
              <a:path w="21600" h="32044">
                <a:moveTo>
                  <a:pt x="5" y="0"/>
                </a:moveTo>
                <a:arcTo wR="5" hR="5" stAng="16200000" swAng="-5400000"/>
                <a:lnTo>
                  <a:pt x="0" y="32039"/>
                </a:lnTo>
                <a:arcTo wR="5" hR="5" stAng="10800000" swAng="-5400000"/>
                <a:lnTo>
                  <a:pt x="21595" y="320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19"/>
          </p:nvPr>
        </p:nvSpPr>
        <p:spPr>
          <a:xfrm>
            <a:off x="377784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2080" cy="37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666720" y="4700160"/>
            <a:ext cx="53323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0"/>
          </p:nvPr>
        </p:nvSpPr>
        <p:spPr>
          <a:xfrm>
            <a:off x="3777840" y="939924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ECD6C-C6B3-451C-B7CF-49BAA49B0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D99D9-F8B0-44F7-97A0-8CDE8F577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ECAA-3781-4487-A606-594D82885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61840" y="743040"/>
            <a:ext cx="4945320" cy="37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41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A71C6-225E-481A-9541-6FB533587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389B3F-D26D-46DC-BD65-D5FC6DEF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0FD1F-811A-4E1C-929A-55FBDF7F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69040-F23B-4FFD-964E-E9B413E1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118DCF-A337-4BC4-AD37-27A3672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A8A59-DFF0-4F3A-8634-ADBA86C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20A39-8EF7-4F57-9939-627EFF4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80D66A-BEE4-4B39-9F0B-1378354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72E5FB-B984-4DB9-B454-50E01C0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F3BFAF-8670-42D4-8936-19CF28ADF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25D7-3074-46D9-AC9D-84BC57F5F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7110-F716-461E-9D5A-594E543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A2D0-0ED6-4230-A055-1A1C855E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68FA-910C-48A3-A2CA-8B0124A8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9CB9C-ECD0-47B0-A07A-E4919BE0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27921-5FC5-4333-B802-B76E28D9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3263-999D-4313-B205-AB8F946E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52A5-37EE-49DC-B22E-D89C3C75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0BB1-F416-4316-BAB9-82D47A96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C123-1CD4-4AC9-BD93-376B474E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0D0B-E2B6-4503-A639-F574733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35E1-77A2-47E9-920D-06DE1063F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EB38-DC1F-4F75-AAEB-97BB765E4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F7062-0315-4822-B5A3-14362BED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9AD5-7AC5-4CC6-8087-73B312C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D9FE-F157-4EE8-AC2E-DB9404DD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9416-C078-4C3E-9523-1E035270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6AEB-8F2B-4036-B6D0-1E9EB9B9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038D-430D-4444-93CC-3B0A2B48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EA84-50F4-4DDA-B34D-8343278E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5290-6F33-4691-8D76-A146E4A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07A-C0C1-45C0-8631-11BB38BF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26FA-80BE-46FA-8D48-82E11796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31B5-B026-46CF-88B9-7DD22F255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D66B2-6F8A-422A-BD1F-60227CCBE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6CAA7-CCE4-4778-849B-8E5DDC19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9A877-D2B2-4864-BF95-674982D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3CC49-8843-4FE1-9883-3D83DB49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0358-17FD-43B9-9434-33EB707B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F67FE-4D47-4676-B734-736B1124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0AF7-DD97-496B-A668-0B567C9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91FB-CEB2-487C-A0D6-1FFF108B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0CC7D-E0C6-4298-88A6-D590341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16C06-4C76-49BC-BE35-CD81E128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67734-AC42-4102-ADE6-846F334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70741-12BC-4EAE-A90F-6DC153591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5E7-FE7B-4552-926A-28E806F173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F6E8-AE2E-4660-B6B8-18F1C33D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EB6D-996A-42C3-B77D-9004BA5F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99C-52D6-4F43-ADC5-198F1E2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7EE-2047-4F71-AA0A-A8738A54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0CED-3E32-4C82-A575-A540E5F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D824-8565-46F5-881F-EA546E15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E18B-6EE1-4786-A4AF-DD79F94B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3BFF-82E2-4AF9-B4AC-FB3E8BF9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D79-E6CB-4A48-9B9F-8B0FA1AE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3959-7C57-4BA6-BF6B-A051B11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CB5-90C9-4423-A3B6-9BBF86943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453ED-F5BB-45AF-BB01-BDB0AD2DC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6FEFE-6E12-49F6-9B68-31D5F0B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8E388-34DC-4460-BD27-6CF6524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D968D-35DC-4583-940B-D3355A42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E1D0C-8A27-4FF9-B14D-3D83CE6A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52AFD-E4B5-4E40-B8F7-89292F15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933E3-07A1-419A-9BCB-9B3B76E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0B911-248B-4D4D-8F15-AD1BC7E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9B6CD-5F7E-4688-9BCC-F2180A2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74008-97E8-406A-A5F2-B5835DD9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EB48C-DFF6-433B-8548-EAFD014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5A893-1962-4F36-8EAE-3B6FDA6C6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0F892-6E31-4842-86D9-A8E7DE751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BC9D8-3C0A-4145-A2CC-1A5ECAF7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96229-B9E1-4A3A-8870-E5E708E4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B50CC-DA62-45F8-8962-51AFA006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52387-F21B-4B4D-AE72-0801E4FF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946CF-2BDF-4D78-826F-9C782649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34170-69C8-40C1-8417-976399A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C7AD5-5127-49EE-9497-9D22EA9F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9726D-34B5-4439-BDD6-0E77900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3FFAAC-7866-4AE0-BDB4-A31B2BA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57A36-5959-42C8-AC99-CFE734F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31080-15CE-4BB9-8D04-8936309294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9DCA-7677-459F-8B20-7363BDFED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649B-D497-49F3-A71E-0D1E03C9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E2CF-CEB8-40A5-9090-BDE3A13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5817-B43B-4AC4-A3D3-22D0E7D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8E54-26CB-492F-8ED0-7C2DB3EC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77B8D-990A-44B3-8641-4849CD1B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A75E-4FDD-4ABF-AFD9-2810E1D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D07D-C273-4322-A61D-11C6A7E5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1637-5CA3-4EF5-98BD-620DA47C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E1B0-EE20-4910-B13D-5461CB3E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1FB5-A877-41B8-8F57-D1E28DE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DDB6-F7C5-4741-8224-3AA3DDAE5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7D729-0513-422C-98C9-50D1814496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6ABB3-C8E8-42AB-AB98-8D3F8EF0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1E85B-0540-482C-A75D-FD8E28E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F6871-71B1-4AFB-A3D2-8844A44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5AA34-BC6C-4015-9D23-DD3908F4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C70F5-B3C2-446A-B466-9F87180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6BD94-E991-4D2E-9C92-806ECA1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4B6CF-C09F-405C-AC6B-5837D7A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F41F6-197D-4749-9E9B-87A9A24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31FAA-C0D4-4239-910B-551940B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EBCD7-AA56-43E4-B716-E94E215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8476A-2A08-4836-8871-C16F7C905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91D15-BD21-4A40-AE0D-1B55B03ED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B9A2B-22E4-4F2B-8BA3-A4147F1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9FD515-020D-4F1A-B67E-0F511BC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067B2A-F696-4D29-B85A-E7E386B08C5E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E0003B-C067-44A3-8A0B-B8FE5E041022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4F8A08-8337-415F-AF82-4447586727F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A217EA-9958-43C6-A22A-9DCA293972EC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51AC26-E9A9-4946-A762-F60671FAF57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A87D88-42A2-4C25-912D-8EFA174EC819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B630F35-82D9-4B59-940C-63162DB42E51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5FC606-2C4D-4A76-A712-6F3CC0C7352F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FD6C90-39DD-46C2-842A-553C949EA81B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enmedia.org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3929040" cy="3143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715000" y="2000160"/>
            <a:ext cx="3214800" cy="32101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8715240" cy="428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92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New Media for Youth Eng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Ede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85880" y="928800"/>
            <a:ext cx="797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cabce"/>
                </a:solidFill>
                <a:latin typeface="Arial"/>
              </a:rPr>
              <a:t>Introduction to Eden Media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43040" y="1440000"/>
            <a:ext cx="6095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ng people are using new media on routine daily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engage in their own way about issues they think are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are often accused of apathy  and dis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(research suggests) they see participation in more individual and less institutional terms than their parents and older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(and new opportunity) to exploit new media’s potential to ‘empower’ young people and enable participation in issues that affect them and their loc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57160" y="928800"/>
            <a:ext cx="7905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cabce"/>
                </a:solidFill>
                <a:latin typeface="Arial"/>
              </a:rPr>
              <a:t>Introduction to Eden Media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571760" y="1440000"/>
            <a:ext cx="59292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en Media website was set up in a short space of time to demonstrate what is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http:www.edenmedia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Free or low cos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veral limitations but great enthusiasm from young people on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used a wiki to help us organise things at a distance (www.engagingeden.wikispaces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group took on the mantle of ‘digital reporters’ and ‘editors’ to engage with other young people using new media and provide feedback to the Council about a youth event organised in late M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3929040" cy="31435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214800" y="242892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715000" y="2000160"/>
            <a:ext cx="3214800" cy="32101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428760" y="1285920"/>
            <a:ext cx="8715240" cy="428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0" y="92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New Media for Youth Eng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Eden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71680" y="928800"/>
            <a:ext cx="819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cabce"/>
                </a:solidFill>
                <a:latin typeface="Arial"/>
              </a:rPr>
              <a:t>SkateJam, Skateboard Park, Penr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2000160"/>
            <a:ext cx="6095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13860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857680" y="1857240"/>
            <a:ext cx="326196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2:55Z</dcterms:created>
  <dc:creator>barryc</dc:creator>
  <dc:description/>
  <dc:language>en-US</dc:language>
  <cp:lastModifiedBy>Administrator</cp:lastModifiedBy>
  <dcterms:modified xsi:type="dcterms:W3CDTF">2009-06-26T12:53:23Z</dcterms:modified>
  <cp:revision>135</cp:revision>
  <dc:subject/>
  <dc:title>Slide 1</dc:title>
</cp:coreProperties>
</file>